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263c80"/>
                </a:solidFill>
                <a:latin typeface="Asap"/>
              </a:rPr>
              <a:t>Click to move the slide</a:t>
            </a: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dt" idx="1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ftr" idx="2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 type="sldNum" idx="3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FE95BE-C782-4DBA-9DC5-4E766ECDDC76}" type="slidenum">
              <a:rPr b="0" lang="sk-SK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Klucova tema = datovy manaz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4542FF-4366-4DFC-8C06-42C8E5940908}" type="slidenum">
              <a:rPr b="0" lang="sk-SK" sz="1800" spc="-1" strike="noStrike">
                <a:solidFill>
                  <a:srgbClr val="263c80"/>
                </a:solidFill>
                <a:latin typeface="+mn-lt"/>
                <a:ea typeface="+mn-e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Klucova tema = datovy manaz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BA38F4-A110-4FC4-BD98-0AB528C111FF}" type="slidenum">
              <a:rPr b="0" lang="sk-SK" sz="1800" spc="-1" strike="noStrike">
                <a:solidFill>
                  <a:srgbClr val="263c80"/>
                </a:solidFill>
                <a:latin typeface="+mn-lt"/>
                <a:ea typeface="+mn-e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Klucova tema = datovy manaz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536D9A-EC9F-4C2E-BAB9-36EAB6C9B1A6}" type="slidenum">
              <a:rPr b="0" lang="sk-SK" sz="1800" spc="-1" strike="noStrike">
                <a:solidFill>
                  <a:srgbClr val="263c80"/>
                </a:solidFill>
                <a:latin typeface="+mn-lt"/>
                <a:ea typeface="+mn-e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Klucova tema = datovy manaz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D8D404-8A27-4AF2-BAA1-4B1842DA72C8}" type="slidenum">
              <a:rPr b="0" lang="sk-SK" sz="1800" spc="-1" strike="noStrike">
                <a:solidFill>
                  <a:srgbClr val="263c80"/>
                </a:solidFill>
                <a:latin typeface="+mn-lt"/>
                <a:ea typeface="+mn-e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Klucova tema = datovy manaz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AA0069-A013-4927-8471-7F9F491FD0B1}" type="slidenum">
              <a:rPr b="0" lang="sk-SK" sz="1800" spc="-1" strike="noStrike">
                <a:solidFill>
                  <a:srgbClr val="263c80"/>
                </a:solidFill>
                <a:latin typeface="+mn-lt"/>
                <a:ea typeface="+mn-e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Klucova tema = datovy manaz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B789C0-0E18-44C0-B6DB-07022695E9AF}" type="slidenum">
              <a:rPr b="0" lang="sk-SK" sz="1800" spc="-1" strike="noStrike">
                <a:solidFill>
                  <a:srgbClr val="263c80"/>
                </a:solidFill>
                <a:latin typeface="+mn-lt"/>
                <a:ea typeface="+mn-e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Klucova tema = datovy manaz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F52EA5-D372-4646-A724-3CD117F79490}" type="slidenum">
              <a:rPr b="0" lang="sk-SK" sz="1800" spc="-1" strike="noStrike">
                <a:solidFill>
                  <a:srgbClr val="263c80"/>
                </a:solidFill>
                <a:latin typeface="+mn-lt"/>
                <a:ea typeface="+mn-e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09480" y="396756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2308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31856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802728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0948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431856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802728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609480" y="1604880"/>
            <a:ext cx="1096992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6992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2720" cy="61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09480" y="1604880"/>
            <a:ext cx="1096992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308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09480" y="396756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2308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31856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802728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60948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431856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802728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609480" y="1604880"/>
            <a:ext cx="1096992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6992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6992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2720" cy="61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2308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609480" y="396756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62308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31856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802728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60948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431856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802728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09480" y="1604880"/>
            <a:ext cx="1096992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6992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2720" cy="61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2308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09480" y="396756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62308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31856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802728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0948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431856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802728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609480" y="1604880"/>
            <a:ext cx="1096992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6992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2720" cy="61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2308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09480" y="396756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62308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2720" cy="61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31856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802728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60948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431856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802728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609480" y="1604880"/>
            <a:ext cx="1096992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6992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2720" cy="61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2308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609480" y="396756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62308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31856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802728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60948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431856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802728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609480" y="1604880"/>
            <a:ext cx="1096992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6992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2720" cy="61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2308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2308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609480" y="396756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62308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31856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802728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60948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431856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802728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609480" y="1604880"/>
            <a:ext cx="1096992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6992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2720" cy="61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2308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609480" y="396756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62308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31856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802728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60948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431856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802728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3c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121874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6176880"/>
            <a:ext cx="12192120" cy="68112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641520" y="6269040"/>
            <a:ext cx="2377800" cy="4525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69231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+ 421 2 2092 8xxx kontakt@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93027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Štefánikova 15 - 011 05 Bratislava www.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1440" y="0"/>
            <a:ext cx="12187440" cy="68580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0" y="4281480"/>
            <a:ext cx="12192120" cy="257652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7272360" y="4866840"/>
            <a:ext cx="423216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000"/>
          </a:bodyPr>
          <a:p>
            <a:pPr marL="23760" indent="0">
              <a:lnSpc>
                <a:spcPct val="88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Click to edit the outline text format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1" marL="23760" indent="-237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con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2" marL="23760" indent="-237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Thir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3" marL="23760" indent="-237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our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4" marL="23760" indent="-237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if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5" marL="23760" indent="-237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ix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6" marL="23760" indent="-237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ven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8" name=""/>
          <p:cNvSpPr/>
          <p:nvPr/>
        </p:nvSpPr>
        <p:spPr>
          <a:xfrm flipH="1">
            <a:off x="11139120" y="6197760"/>
            <a:ext cx="343080" cy="1440"/>
          </a:xfrm>
          <a:prstGeom prst="line">
            <a:avLst/>
          </a:prstGeom>
          <a:ln w="38160">
            <a:solidFill>
              <a:srgbClr val="ed1c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" descr=""/>
          <p:cNvPicPr/>
          <p:nvPr/>
        </p:nvPicPr>
        <p:blipFill>
          <a:blip r:embed="rId5"/>
          <a:stretch/>
        </p:blipFill>
        <p:spPr>
          <a:xfrm>
            <a:off x="490680" y="4938840"/>
            <a:ext cx="3284280" cy="596880"/>
          </a:xfrm>
          <a:prstGeom prst="rect">
            <a:avLst/>
          </a:prstGeom>
          <a:ln w="0">
            <a:noFill/>
          </a:ln>
        </p:spPr>
      </p:pic>
      <p:sp>
        <p:nvSpPr>
          <p:cNvPr id="10" name="PlaceHolder 2"/>
          <p:cNvSpPr>
            <a:spLocks noGrp="1"/>
          </p:cNvSpPr>
          <p:nvPr>
            <p:ph type="title"/>
          </p:nvPr>
        </p:nvSpPr>
        <p:spPr>
          <a:xfrm>
            <a:off x="609480" y="272520"/>
            <a:ext cx="109699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263c80"/>
                </a:solidFill>
                <a:latin typeface="Asap"/>
              </a:rPr>
              <a:t>Click to edit the title text format</a:t>
            </a: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1218744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6176880"/>
            <a:ext cx="12192120" cy="68112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641520" y="6269040"/>
            <a:ext cx="2377800" cy="4525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9231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+ 421 2 2092 8xxx kontakt@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3027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Štefánikova 15 - 011 05 Bratislava www.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263c80"/>
                </a:solidFill>
                <a:latin typeface="Asap"/>
              </a:rPr>
              <a:t>Click to edit the title text format</a:t>
            </a: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641520" y="6269040"/>
            <a:ext cx="2377800" cy="4525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93027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Štefánikova 15 - 011 05 Bratislava www.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5746320" y="25560"/>
            <a:ext cx="700200" cy="1440"/>
          </a:xfrm>
          <a:prstGeom prst="line">
            <a:avLst/>
          </a:prstGeom>
          <a:ln w="57240">
            <a:solidFill>
              <a:srgbClr val="ed1c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-3600" y="1844640"/>
            <a:ext cx="700200" cy="1800"/>
          </a:xfrm>
          <a:prstGeom prst="line">
            <a:avLst/>
          </a:prstGeom>
          <a:ln w="57240">
            <a:solidFill>
              <a:srgbClr val="d1d3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11495160" y="4626000"/>
            <a:ext cx="699840" cy="1440"/>
          </a:xfrm>
          <a:prstGeom prst="line">
            <a:avLst/>
          </a:prstGeom>
          <a:ln w="57240">
            <a:solidFill>
              <a:srgbClr val="d1d3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09480" y="1604880"/>
            <a:ext cx="1096992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Click to edit the outline text format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1" marL="343080" indent="-3430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con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2" marL="343080" indent="-3430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Thir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3" marL="343080" indent="-3430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our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4" marL="343080" indent="-3430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if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5" marL="343080" indent="-3430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ix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6" marL="343080" indent="-3430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ven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1218744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0" y="6176880"/>
            <a:ext cx="12192120" cy="68112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641520" y="6269040"/>
            <a:ext cx="2377800" cy="4525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9231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+ 421 2 2092 8xxx kontakt@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3027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Štefánikova 15 - 011 05 Bratislava www.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48880" y="363600"/>
            <a:ext cx="10512360" cy="5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263c80"/>
                </a:solidFill>
                <a:latin typeface="Asap"/>
              </a:rPr>
              <a:t>Click to edit the title text format</a:t>
            </a: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792440" y="894960"/>
            <a:ext cx="862632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000"/>
          </a:bodyPr>
          <a:p>
            <a:pPr marL="27360" indent="0">
              <a:lnSpc>
                <a:spcPct val="88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Click to edit the outline text format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1" marL="27360" indent="-27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con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2" marL="27360" indent="-27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Thir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3" marL="27360" indent="-27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our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4" marL="27360" indent="-27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if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5" marL="27360" indent="-27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ix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6" marL="27360" indent="-27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ven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03" name=""/>
          <p:cNvSpPr/>
          <p:nvPr/>
        </p:nvSpPr>
        <p:spPr>
          <a:xfrm>
            <a:off x="4264200" y="1955880"/>
            <a:ext cx="3551040" cy="3551040"/>
          </a:xfrm>
          <a:prstGeom prst="ellipse">
            <a:avLst/>
          </a:prstGeom>
          <a:noFill/>
          <a:ln w="127080">
            <a:solidFill>
              <a:srgbClr val="0055a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04880" y="1955880"/>
            <a:ext cx="3551040" cy="3551040"/>
          </a:xfrm>
          <a:prstGeom prst="ellipse">
            <a:avLst/>
          </a:prstGeom>
          <a:noFill/>
          <a:ln w="127080">
            <a:solidFill>
              <a:srgbClr val="808080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-2841480" y="1265400"/>
            <a:ext cx="7095960" cy="8483400"/>
          </a:xfrm>
          <a:custGeom>
            <a:avLst/>
            <a:gdLst>
              <a:gd name="textAreaLeft" fmla="*/ 3547800 w 7095960"/>
              <a:gd name="textAreaRight" fmla="*/ 7095960 w 7095960"/>
              <a:gd name="textAreaTop" fmla="*/ 693720 h 8483400"/>
              <a:gd name="textAreaBottom" fmla="*/ 4241160 h 8483400"/>
            </a:gdLst>
            <a:ahLst/>
            <a:rect l="textAreaLeft" t="textAreaTop" r="textAreaRight" b="textAreaBottom"/>
            <a:pathLst>
              <a:path stroke="0" w="21600" h="21600">
                <a:moveTo>
                  <a:pt x="16682" y="1742"/>
                </a:moveTo>
                <a:arcTo wR="10800" hR="10800" stAng="-3420000" swAng="3420000"/>
                <a:lnTo>
                  <a:pt x="10800" y="10800"/>
                </a:lnTo>
                <a:close/>
              </a:path>
              <a:path fill="none" w="21600" h="21600">
                <a:moveTo>
                  <a:pt x="16682" y="1742"/>
                </a:moveTo>
                <a:arcTo wR="10800" hR="10800" stAng="-3420000" swAng="3420000"/>
              </a:path>
            </a:pathLst>
          </a:custGeom>
          <a:noFill/>
          <a:ln w="127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4267080" y="-2279520"/>
            <a:ext cx="7096320" cy="8485200"/>
          </a:xfrm>
          <a:custGeom>
            <a:avLst/>
            <a:gdLst>
              <a:gd name="textAreaLeft" fmla="*/ 3547800 w 7096320"/>
              <a:gd name="textAreaRight" fmla="*/ 7096320 w 7096320"/>
              <a:gd name="textAreaTop" fmla="*/ 694080 h 8485200"/>
              <a:gd name="textAreaBottom" fmla="*/ 4242240 h 8485200"/>
            </a:gdLst>
            <a:ahLst/>
            <a:rect l="textAreaLeft" t="textAreaTop" r="textAreaRight" b="textAreaBottom"/>
            <a:pathLst>
              <a:path stroke="0" w="21600" h="21600">
                <a:moveTo>
                  <a:pt x="16682" y="1742"/>
                </a:moveTo>
                <a:arcTo wR="10800" hR="10800" stAng="-3420000" swAng="3420000"/>
                <a:lnTo>
                  <a:pt x="10800" y="10800"/>
                </a:lnTo>
                <a:close/>
              </a:path>
              <a:path fill="none" w="21600" h="21600">
                <a:moveTo>
                  <a:pt x="16682" y="1742"/>
                </a:moveTo>
                <a:arcTo wR="10800" hR="10800" stAng="-3420000" swAng="3420000"/>
              </a:path>
            </a:pathLst>
          </a:custGeom>
          <a:noFill/>
          <a:ln w="127080">
            <a:solidFill>
              <a:srgbClr val="0055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812000" y="1955880"/>
            <a:ext cx="3551400" cy="3551040"/>
          </a:xfrm>
          <a:prstGeom prst="ellipse">
            <a:avLst/>
          </a:prstGeom>
          <a:noFill/>
          <a:ln w="127080">
            <a:solidFill>
              <a:srgbClr val="ed1c24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265640" y="1265400"/>
            <a:ext cx="7095960" cy="8483400"/>
          </a:xfrm>
          <a:custGeom>
            <a:avLst/>
            <a:gdLst>
              <a:gd name="textAreaLeft" fmla="*/ 3547800 w 7095960"/>
              <a:gd name="textAreaRight" fmla="*/ 7095960 w 7095960"/>
              <a:gd name="textAreaTop" fmla="*/ 693720 h 8483400"/>
              <a:gd name="textAreaBottom" fmla="*/ 4241160 h 8483400"/>
            </a:gdLst>
            <a:ahLst/>
            <a:rect l="textAreaLeft" t="textAreaTop" r="textAreaRight" b="textAreaBottom"/>
            <a:pathLst>
              <a:path stroke="0" w="21600" h="21600">
                <a:moveTo>
                  <a:pt x="16682" y="1742"/>
                </a:moveTo>
                <a:arcTo wR="10800" hR="10800" stAng="-3420000" swAng="3420000"/>
                <a:lnTo>
                  <a:pt x="10800" y="10800"/>
                </a:lnTo>
                <a:close/>
              </a:path>
              <a:path fill="none" w="21600" h="21600">
                <a:moveTo>
                  <a:pt x="16682" y="1742"/>
                </a:moveTo>
                <a:arcTo wR="10800" hR="10800" stAng="-3420000" swAng="3420000"/>
              </a:path>
            </a:pathLst>
          </a:custGeom>
          <a:noFill/>
          <a:ln w="127080">
            <a:solidFill>
              <a:srgbClr val="ed1c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3c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1218744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0" y="6176880"/>
            <a:ext cx="12192120" cy="68112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641520" y="6269040"/>
            <a:ext cx="2377800" cy="4525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69231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+ 421 2 2092 8xxx kontakt@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93027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Štefánikova 15 - 011 05 Bratislava www.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4"/>
          <a:stretch/>
        </p:blipFill>
        <p:spPr>
          <a:xfrm>
            <a:off x="1440" y="0"/>
            <a:ext cx="1218744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0" y="0"/>
            <a:ext cx="4703760" cy="6858000"/>
          </a:xfrm>
          <a:custGeom>
            <a:avLst/>
            <a:gdLst>
              <a:gd name="textAreaLeft" fmla="*/ 0 w 4703760"/>
              <a:gd name="textAreaRight" fmla="*/ 4704120 w 470376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-3600" y="1866960"/>
            <a:ext cx="343080" cy="1440"/>
          </a:xfrm>
          <a:prstGeom prst="line">
            <a:avLst/>
          </a:prstGeom>
          <a:ln w="38160">
            <a:solidFill>
              <a:srgbClr val="d1d3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3692160" y="2776680"/>
            <a:ext cx="343080" cy="1440"/>
          </a:xfrm>
          <a:prstGeom prst="line">
            <a:avLst/>
          </a:prstGeom>
          <a:ln w="38160">
            <a:solidFill>
              <a:srgbClr val="0055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638280" y="5045040"/>
            <a:ext cx="342720" cy="1800"/>
          </a:xfrm>
          <a:prstGeom prst="line">
            <a:avLst/>
          </a:prstGeom>
          <a:ln w="38160">
            <a:solidFill>
              <a:srgbClr val="ed1c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554040" y="2109960"/>
            <a:ext cx="3473280" cy="23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6000"/>
          </a:bodyPr>
          <a:p>
            <a:pPr marL="191880" indent="0">
              <a:lnSpc>
                <a:spcPct val="88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Click to edit the outline text format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1" marL="191880" indent="-1918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con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2" marL="191880" indent="-1918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Thir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3" marL="191880" indent="-1918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our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4" marL="191880" indent="-1918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if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5" marL="191880" indent="-1918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ix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6" marL="191880" indent="-1918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ven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5"/>
          <a:stretch/>
        </p:blipFill>
        <p:spPr>
          <a:xfrm>
            <a:off x="554040" y="528480"/>
            <a:ext cx="2894040" cy="52560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609480" y="272520"/>
            <a:ext cx="109699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263c80"/>
                </a:solidFill>
                <a:latin typeface="Asap"/>
              </a:rPr>
              <a:t>Click to edit the title text format</a:t>
            </a: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12187440" cy="685800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0" y="6176880"/>
            <a:ext cx="12192120" cy="68112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641520" y="6269040"/>
            <a:ext cx="2377800" cy="4525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69231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+ 421 2 2092 8xxx kontakt@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93027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Štefánikova 15 - 011 05 Bratislava www.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rcRect l="0" t="11211" r="0" b="1121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838080" y="1187280"/>
            <a:ext cx="3963960" cy="19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4000" spc="-1" strike="noStrike">
                <a:solidFill>
                  <a:srgbClr val="263c80"/>
                </a:solidFill>
                <a:latin typeface="Asap"/>
                <a:ea typeface="Roboto"/>
              </a:rPr>
              <a:t>Ďakujem </a:t>
            </a:r>
            <a:br>
              <a:rPr sz="4000"/>
            </a:br>
            <a:r>
              <a:rPr b="1" lang="sk-SK" sz="4000" spc="-1" strike="noStrike">
                <a:solidFill>
                  <a:srgbClr val="263c80"/>
                </a:solidFill>
                <a:latin typeface="Asap"/>
                <a:ea typeface="Roboto"/>
              </a:rPr>
              <a:t>za pozornos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-3600" y="3630600"/>
            <a:ext cx="343080" cy="1440"/>
          </a:xfrm>
          <a:prstGeom prst="line">
            <a:avLst/>
          </a:prstGeom>
          <a:ln w="38160">
            <a:solidFill>
              <a:srgbClr val="d1d3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7888320" y="1384200"/>
            <a:ext cx="342720" cy="1800"/>
          </a:xfrm>
          <a:prstGeom prst="line">
            <a:avLst/>
          </a:prstGeom>
          <a:ln w="38160">
            <a:solidFill>
              <a:srgbClr val="0055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11139120" y="6197760"/>
            <a:ext cx="343080" cy="1440"/>
          </a:xfrm>
          <a:prstGeom prst="line">
            <a:avLst/>
          </a:prstGeom>
          <a:ln w="38160">
            <a:solidFill>
              <a:srgbClr val="ed1c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body"/>
          </p:nvPr>
        </p:nvSpPr>
        <p:spPr>
          <a:xfrm>
            <a:off x="837720" y="5509800"/>
            <a:ext cx="347508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33000"/>
          </a:bodyPr>
          <a:p>
            <a:pPr marL="113040" indent="0">
              <a:lnSpc>
                <a:spcPct val="88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Click to edit the outline text format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1" marL="113040" indent="-11304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con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2" marL="113040" indent="-11304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Thir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3" marL="113040" indent="-11304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our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4" marL="113040" indent="-11304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if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5" marL="113040" indent="-11304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ix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6" marL="113040" indent="-11304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ven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609480" y="272520"/>
            <a:ext cx="109699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263c80"/>
                </a:solidFill>
                <a:latin typeface="Asap"/>
              </a:rPr>
              <a:t>Click to edit the title text format</a:t>
            </a: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12187440" cy="685800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0" y="6176880"/>
            <a:ext cx="12192120" cy="68112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3"/>
          <a:stretch/>
        </p:blipFill>
        <p:spPr>
          <a:xfrm>
            <a:off x="641520" y="6269040"/>
            <a:ext cx="2377800" cy="4525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9231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+ 421 2 2092 8xxx kontakt@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93027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Štefánikova 15 - 011 05 Bratislava www.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4"/>
          <a:srcRect l="5972" t="0" r="5972" b="0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 flipH="1">
            <a:off x="5746320" y="6829560"/>
            <a:ext cx="700200" cy="1440"/>
          </a:xfrm>
          <a:prstGeom prst="line">
            <a:avLst/>
          </a:prstGeom>
          <a:ln w="57240">
            <a:solidFill>
              <a:srgbClr val="ed1c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body"/>
          </p:nvPr>
        </p:nvSpPr>
        <p:spPr>
          <a:xfrm>
            <a:off x="4157640" y="4730760"/>
            <a:ext cx="387504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20000"/>
          </a:bodyPr>
          <a:p>
            <a:pPr marL="68400" indent="0">
              <a:lnSpc>
                <a:spcPct val="88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Click to edit the outline text format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1" marL="68400" indent="-6840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con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2" marL="68400" indent="-6840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Thir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3" marL="68400" indent="-6840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our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4" marL="68400" indent="-6840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if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5" marL="68400" indent="-6840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ix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6" marL="68400" indent="-6840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ven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50" name=""/>
          <p:cNvSpPr/>
          <p:nvPr/>
        </p:nvSpPr>
        <p:spPr>
          <a:xfrm>
            <a:off x="4856040" y="5815080"/>
            <a:ext cx="247968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400" spc="-1" strike="noStrike">
                <a:solidFill>
                  <a:srgbClr val="263c80"/>
                </a:solidFill>
                <a:latin typeface="Asap"/>
              </a:rPr>
              <a:t>www.vicepremier.gov.s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5637240" y="760320"/>
            <a:ext cx="919080" cy="87156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2"/>
          <p:cNvSpPr>
            <a:spLocks noGrp="1"/>
          </p:cNvSpPr>
          <p:nvPr>
            <p:ph type="title"/>
          </p:nvPr>
        </p:nvSpPr>
        <p:spPr>
          <a:xfrm>
            <a:off x="609480" y="272520"/>
            <a:ext cx="109699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263c80"/>
                </a:solidFill>
                <a:latin typeface="Asap"/>
              </a:rPr>
              <a:t>Click to edit the title text format</a:t>
            </a: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12187440" cy="685800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0" y="6176880"/>
            <a:ext cx="12192120" cy="68112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3"/>
          <a:stretch/>
        </p:blipFill>
        <p:spPr>
          <a:xfrm>
            <a:off x="641520" y="6269040"/>
            <a:ext cx="2377800" cy="45252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69231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+ 421 2 2092 8xxx kontakt@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93027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Štefánikova 15 - 011 05 Bratislava www.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0" y="6176880"/>
            <a:ext cx="12192120" cy="68112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4"/>
          <a:stretch/>
        </p:blipFill>
        <p:spPr>
          <a:xfrm>
            <a:off x="641520" y="6269040"/>
            <a:ext cx="2377800" cy="452520"/>
          </a:xfrm>
          <a:prstGeom prst="rect">
            <a:avLst/>
          </a:prstGeom>
          <a:ln w="0">
            <a:noFill/>
          </a:ln>
        </p:spPr>
      </p:pic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263c80"/>
                </a:solidFill>
                <a:latin typeface="Asap"/>
              </a:rPr>
              <a:t>Click to edit the title text format</a:t>
            </a: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837720" y="1825560"/>
            <a:ext cx="5178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2000"/>
          </a:bodyPr>
          <a:p>
            <a:pPr marL="315360" indent="0">
              <a:lnSpc>
                <a:spcPct val="88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Click to edit the outline text format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1" marL="315360" indent="-315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con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2" marL="315360" indent="-315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Thir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3" marL="315360" indent="-315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our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4" marL="315360" indent="-315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if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5" marL="315360" indent="-315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ix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6" marL="315360" indent="-315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ven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98" name=""/>
          <p:cNvSpPr/>
          <p:nvPr/>
        </p:nvSpPr>
        <p:spPr>
          <a:xfrm>
            <a:off x="93027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Štefánikova 15 - 011 05 Bratislava www.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5746320" y="25560"/>
            <a:ext cx="700200" cy="1440"/>
          </a:xfrm>
          <a:prstGeom prst="line">
            <a:avLst/>
          </a:prstGeom>
          <a:ln w="57240">
            <a:solidFill>
              <a:srgbClr val="ed1c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H="1">
            <a:off x="-3600" y="1844640"/>
            <a:ext cx="700200" cy="1800"/>
          </a:xfrm>
          <a:prstGeom prst="line">
            <a:avLst/>
          </a:prstGeom>
          <a:ln w="57240">
            <a:solidFill>
              <a:srgbClr val="d1d3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11495160" y="4626000"/>
            <a:ext cx="699840" cy="1440"/>
          </a:xfrm>
          <a:prstGeom prst="line">
            <a:avLst/>
          </a:prstGeom>
          <a:ln w="57240">
            <a:solidFill>
              <a:srgbClr val="d1d3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12187440" cy="68580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0" y="6176880"/>
            <a:ext cx="12192120" cy="68112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3"/>
          <a:stretch/>
        </p:blipFill>
        <p:spPr>
          <a:xfrm>
            <a:off x="641520" y="6269040"/>
            <a:ext cx="2377800" cy="45252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69231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+ 421 2 2092 8xxx kontakt@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93027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Štefánikova 15 - 011 05 Bratislava www.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459080" y="3459240"/>
            <a:ext cx="9272520" cy="1440"/>
          </a:xfrm>
          <a:prstGeom prst="line">
            <a:avLst/>
          </a:prstGeom>
          <a:ln w="12600">
            <a:solidFill>
              <a:srgbClr val="263c80">
                <a:alpha val="30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0" y="0"/>
            <a:ext cx="12192120" cy="229860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0" lang="sk-SK" sz="1600" spc="-1" strike="noStrike">
                <a:solidFill>
                  <a:srgbClr val="263c80"/>
                </a:solidFill>
                <a:latin typeface="Roboto Regular"/>
              </a:rPr>
              <a:t>Insert Im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body"/>
          </p:nvPr>
        </p:nvSpPr>
        <p:spPr>
          <a:xfrm>
            <a:off x="880560" y="5067000"/>
            <a:ext cx="2248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17000"/>
          </a:bodyPr>
          <a:p>
            <a:pPr marL="58320" indent="0">
              <a:lnSpc>
                <a:spcPct val="88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Click to edit the outline text format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1" marL="58320" indent="-5832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con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2" marL="58320" indent="-5832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Thir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3" marL="58320" indent="-5832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our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4" marL="58320" indent="-5832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if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5" marL="58320" indent="-5832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ix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6" marL="58320" indent="-5832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ven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title"/>
          </p:nvPr>
        </p:nvSpPr>
        <p:spPr>
          <a:xfrm>
            <a:off x="838080" y="348840"/>
            <a:ext cx="105127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263c80"/>
                </a:solidFill>
                <a:latin typeface="Asap"/>
              </a:rPr>
              <a:t>Click to edit the title text format</a:t>
            </a: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3c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7272360" y="4867200"/>
            <a:ext cx="42354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28600" indent="-227160">
              <a:lnSpc>
                <a:spcPct val="90000"/>
              </a:lnSpc>
              <a:spcBef>
                <a:spcPts val="1001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sap"/>
              </a:rPr>
              <a:t>PS Open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272360" y="5251320"/>
            <a:ext cx="42354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28600" indent="-227160">
              <a:lnSpc>
                <a:spcPct val="90000"/>
              </a:lnSpc>
              <a:spcBef>
                <a:spcPts val="1001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18.12.2018 – 13: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272360" y="5630760"/>
            <a:ext cx="42354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28600" indent="-227160">
              <a:lnSpc>
                <a:spcPct val="90000"/>
              </a:lnSpc>
              <a:spcBef>
                <a:spcPts val="1001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ÚPPVII/ Londý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079360" y="1549080"/>
            <a:ext cx="8032680" cy="28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9900" spc="-1" strike="noStrike">
                <a:solidFill>
                  <a:srgbClr val="263c80"/>
                </a:solidFill>
                <a:latin typeface="Arial Black"/>
              </a:rPr>
              <a:t>DÁTA</a:t>
            </a:r>
            <a:endParaRPr b="0" lang="en-US" sz="199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95" name=""/>
          <p:cNvSpPr/>
          <p:nvPr/>
        </p:nvSpPr>
        <p:spPr>
          <a:xfrm>
            <a:off x="3186360" y="603360"/>
            <a:ext cx="58194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263c80"/>
                </a:solidFill>
                <a:latin typeface="Asap"/>
              </a:rPr>
              <a:t>Oblasť s najväčšou pridanou hodnot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548080" y="4316400"/>
            <a:ext cx="707544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Len krajina, ktorá dokonale pozná a efektívne riadi svoje dát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vie zjednodušiť život svojich občan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165400" y="446040"/>
            <a:ext cx="8994600" cy="55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Progra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1.            Dohoda na fungovaní P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2.            Zverejňovanie prioritných dataset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3.            Návrh – vedenie agendy v digitálnej for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4.            Ekonomická hodnota Open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5.            In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6.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Úlohy a ďalšie stretnu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3186360" y="603360"/>
            <a:ext cx="58194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263c80"/>
                </a:solidFill>
                <a:latin typeface="Asap"/>
              </a:rPr>
              <a:t>Oblasť s najväčšou pridanou hodnot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548080" y="4316400"/>
            <a:ext cx="707544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Len krajina, ktorá dokonale pozná a efektívne riadi svoje dát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vie zjednodušiť život svojich občan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2165400" y="446040"/>
            <a:ext cx="8994600" cy="55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Dohoda na fungovaní P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1. Pravidelnosť – každé 2 týždn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2. Návrh tém na stretnutie – štandardná štruktúra zasadnuti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4764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Microsoft YaHei"/>
              </a:rPr>
              <a:t>Quick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4764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Microsoft YaHei"/>
              </a:rPr>
              <a:t>Strategické té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4764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Microsoft YaHei"/>
              </a:rPr>
              <a:t>Prioritné datasety (po rezortoc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4764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Microsoft YaHei"/>
              </a:rPr>
              <a:t>Plnenie úloh AP OGP/ NKIVS/ Stratég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4764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Microsoft YaHei"/>
              </a:rPr>
              <a:t>Iné, ad hoc tém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3186360" y="603360"/>
            <a:ext cx="58194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263c80"/>
                </a:solidFill>
                <a:latin typeface="Asap"/>
              </a:rPr>
              <a:t>Oblasť s najväčšou pridanou hodnot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548080" y="4316400"/>
            <a:ext cx="707544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Len krajina, ktorá dokonale pozná a efektívne riadi svoje dát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vie zjednodušiť život svojich občan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165400" y="446040"/>
            <a:ext cx="8994600" cy="55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1. Zverejňovanie prioritných datasetov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https://docs.google.com/spreadsheets/d/13uVKtcS4vDHZISeLZvv-0E3Cefmutc8P-CVk0cEf1RM/edit#gid=13236578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2400" spc="-1" strike="noStrike" u="sng">
                <a:solidFill>
                  <a:srgbClr val="ffffff"/>
                </a:solidFill>
                <a:uFillTx/>
                <a:latin typeface="Arial"/>
              </a:rPr>
              <a:t>rezort (15.01.2019):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 Štatistický úrad S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Alternatíva: MŽP SR (SHMÚ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2400" spc="-1" strike="noStrike" u="sng">
                <a:solidFill>
                  <a:srgbClr val="ffffff"/>
                </a:solidFill>
                <a:uFillTx/>
                <a:latin typeface="Arial"/>
              </a:rPr>
              <a:t>Príprava: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porovnanie s datasetmi na data.gov.sk (NASES?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2400" spc="-1" strike="noStrike" u="sng">
                <a:solidFill>
                  <a:srgbClr val="ffffff"/>
                </a:solidFill>
                <a:uFillTx/>
                <a:latin typeface="Arial"/>
              </a:rPr>
              <a:t>Požiadavky (hodnotenie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Formát? Licencia? Kvalita? Aktuálnosť? Aktualizáci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? pomoc s Open API? Priorit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2548080" y="4316400"/>
            <a:ext cx="707544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Len krajina, ktorá dokonale pozná a efektívne riadi svoje dát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vie zjednodušiť život svojich občan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2165400" y="446040"/>
            <a:ext cx="8994600" cy="55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2. Návrh vedenia agendy v digitálnej for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Cieľom je pomôcť rezortom, ktoré majú záujem, s vytvorením vzorového dokument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https://docs.google.com/document/d/1gysbm-Dl5jaKpNynBWZ67B-15Go5O-mpGsCrzchnNrY/e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1. Obsa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2165400" y="446040"/>
            <a:ext cx="8994600" cy="55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3. Ekonomická hodnota Open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Cieľom je poukázať na náklady a prínosy zverejňovania otvorených údajov z ekonomického pohľadu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1. Aspekty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Microsoft YaHei"/>
              </a:rPr>
              <a:t>Náklady, HzP (CBA), Ekonomika, Zamestnanosť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2. Existujúce analýz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3. Návrh štruktúry analýz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https://docs.google.com/document/d/1WmIlPWI-A1r3ho70MqUnHailCMeaONf8ueWhBZiDlzs/e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3186360" y="603360"/>
            <a:ext cx="58194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263c80"/>
                </a:solidFill>
                <a:latin typeface="Asap"/>
              </a:rPr>
              <a:t>Oblasť s najväčšou pridanou hodnot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548080" y="4316400"/>
            <a:ext cx="707544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Len krajina, ktorá dokonale pozná a efektívne riadi svoje dát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vie zjednodušiť život svojich občan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081080" y="446040"/>
            <a:ext cx="10080720" cy="55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Zá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Úloh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1. Posúdiť datasety vybraného rezortu (Štatistický úrad + MŽP S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https://docs.google.com/spreadsheets/d/13uVKtcS4vDHZISeLZvv-0E3Cefmutc8P-CVk0cEf1RM/edit#gid=13236578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2. Komentovať návrh Vedenia agendy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3. Prispieť k prvej časti Ekonomickej analýz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4. Navrhnúť úlohu/y z OGP/NKIVS/Stratég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3186360" y="603360"/>
            <a:ext cx="58194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263c80"/>
                </a:solidFill>
                <a:latin typeface="Asap"/>
              </a:rPr>
              <a:t>Oblasť s najväčšou pridanou hodnot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548080" y="4316400"/>
            <a:ext cx="707544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Len krajina, ktorá dokonale pozná a efektívne riadi svoje dát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vie zjednodušiť život svojich občan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081080" y="446040"/>
            <a:ext cx="10080720" cy="55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Zá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Úloh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Ďalšie stretnutie: 15. 01. 2019 / Londý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Tém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Uzavretie „Vedenie agendy v digitálnej forme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Uzavretie prvej časti Ekonomickej analýzy Open data, otvorenie druhe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Posúdenie zverejňovania Open data 1. rezortu, určenie 2. rezor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VROS USVROS</cp:lastModifiedBy>
  <dcterms:modified xsi:type="dcterms:W3CDTF">2018-11-27T12:45:35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dlc_DocId">
    <vt:lpwstr>CTYWSUCD3UHA-699772915-132</vt:lpwstr>
  </property>
  <property fmtid="{D5CDD505-2E9C-101B-9397-08002B2CF9AE}" pid="3" name="_dlc_DocIdItemGuid">
    <vt:lpwstr>e6520cb6-6600-4122-93bc-d7b0d9c1543b</vt:lpwstr>
  </property>
  <property fmtid="{D5CDD505-2E9C-101B-9397-08002B2CF9AE}" pid="4" name="_dlc_DocIdUrl">
    <vt:lpwstr>https://sp.finance.gov.sk/lepsie-data/_layouts/15/DocIdRedir.aspx?ID=CTYWSUCD3UHA-699772915-132, CTYWSUCD3UHA-699772915-132</vt:lpwstr>
  </property>
</Properties>
</file>