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move the slide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dt" idx="1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3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60249-490D-4783-93A7-B882400B0563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B9098F-5D15-4D1F-A7A9-D35F256E0BC4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11DF0F-6363-45A0-80A1-BE39FCD40412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51300-A1AD-44CD-A730-EE62C73A4ADC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FB4AA-5025-4944-95B4-42D3982EB8D3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CACE93-B4C3-44B5-9CB8-DEACD6D4FA2B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59B1FC-E712-4CA1-98B1-C485E88DC932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F3387-A1BA-4CF9-99F3-D30819C70820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4281480"/>
            <a:ext cx="12192120" cy="25765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7272360" y="4866840"/>
            <a:ext cx="423216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000"/>
          </a:bodyPr>
          <a:p>
            <a:pPr marL="237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11139120" y="6197760"/>
            <a:ext cx="34308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490680" y="4938840"/>
            <a:ext cx="3284280" cy="59688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69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746320" y="25560"/>
            <a:ext cx="7002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-3600" y="1844640"/>
            <a:ext cx="7002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1495160" y="4626000"/>
            <a:ext cx="69984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48880" y="363600"/>
            <a:ext cx="105123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792440" y="894960"/>
            <a:ext cx="862632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000"/>
          </a:bodyPr>
          <a:p>
            <a:pPr marL="273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03" name=""/>
          <p:cNvSpPr/>
          <p:nvPr/>
        </p:nvSpPr>
        <p:spPr>
          <a:xfrm>
            <a:off x="4264200" y="1955880"/>
            <a:ext cx="3551040" cy="3551040"/>
          </a:xfrm>
          <a:prstGeom prst="ellipse">
            <a:avLst/>
          </a:prstGeom>
          <a:noFill/>
          <a:ln w="127080">
            <a:solidFill>
              <a:srgbClr val="0055a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4880" y="1955880"/>
            <a:ext cx="3551040" cy="3551040"/>
          </a:xfrm>
          <a:prstGeom prst="ellipse">
            <a:avLst/>
          </a:prstGeom>
          <a:noFill/>
          <a:ln w="127080">
            <a:solidFill>
              <a:srgbClr val="80808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2841480" y="1265400"/>
            <a:ext cx="7095960" cy="8483400"/>
          </a:xfrm>
          <a:custGeom>
            <a:avLst/>
            <a:gdLst>
              <a:gd name="textAreaLeft" fmla="*/ 3547800 w 7095960"/>
              <a:gd name="textAreaRight" fmla="*/ 7095960 w 7095960"/>
              <a:gd name="textAreaTop" fmla="*/ 693720 h 8483400"/>
              <a:gd name="textAreaBottom" fmla="*/ 4241160 h 8483400"/>
            </a:gdLst>
            <a:ahLst/>
            <a:rect l="textAreaLeft" t="textAreaTop" r="textAreaRight" b="textAreaBottom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4267080" y="-2279520"/>
            <a:ext cx="7096320" cy="8485200"/>
          </a:xfrm>
          <a:custGeom>
            <a:avLst/>
            <a:gdLst>
              <a:gd name="textAreaLeft" fmla="*/ 3547800 w 7096320"/>
              <a:gd name="textAreaRight" fmla="*/ 7096320 w 7096320"/>
              <a:gd name="textAreaTop" fmla="*/ 694080 h 8485200"/>
              <a:gd name="textAreaBottom" fmla="*/ 4242240 h 8485200"/>
            </a:gdLst>
            <a:ahLst/>
            <a:rect l="textAreaLeft" t="textAreaTop" r="textAreaRight" b="textAreaBottom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12000" y="1955880"/>
            <a:ext cx="3551400" cy="3551040"/>
          </a:xfrm>
          <a:prstGeom prst="ellipse">
            <a:avLst/>
          </a:prstGeom>
          <a:noFill/>
          <a:ln w="127080">
            <a:solidFill>
              <a:srgbClr val="ed1c24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5640" y="1265400"/>
            <a:ext cx="7095960" cy="8483400"/>
          </a:xfrm>
          <a:custGeom>
            <a:avLst/>
            <a:gdLst>
              <a:gd name="textAreaLeft" fmla="*/ 3547800 w 7095960"/>
              <a:gd name="textAreaRight" fmla="*/ 7095960 w 7095960"/>
              <a:gd name="textAreaTop" fmla="*/ 693720 h 8483400"/>
              <a:gd name="textAreaBottom" fmla="*/ 4241160 h 8483400"/>
            </a:gdLst>
            <a:ahLst/>
            <a:rect l="textAreaLeft" t="textAreaTop" r="textAreaRight" b="textAreaBottom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0"/>
            <a:ext cx="4703760" cy="6858000"/>
          </a:xfrm>
          <a:custGeom>
            <a:avLst/>
            <a:gdLst>
              <a:gd name="textAreaLeft" fmla="*/ 0 w 4703760"/>
              <a:gd name="textAreaRight" fmla="*/ 4704120 w 470376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-3600" y="1866960"/>
            <a:ext cx="343080" cy="1440"/>
          </a:xfrm>
          <a:prstGeom prst="line">
            <a:avLst/>
          </a:prstGeom>
          <a:ln w="3816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692160" y="2776680"/>
            <a:ext cx="343080" cy="1440"/>
          </a:xfrm>
          <a:prstGeom prst="line">
            <a:avLst/>
          </a:prstGeom>
          <a:ln w="3816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38280" y="5045040"/>
            <a:ext cx="342720" cy="180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554040" y="2109960"/>
            <a:ext cx="34732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6000"/>
          </a:bodyPr>
          <a:p>
            <a:pPr marL="19188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554040" y="528480"/>
            <a:ext cx="2894040" cy="525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69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rcRect l="0" t="11211" r="0" b="1121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838080" y="1187280"/>
            <a:ext cx="396396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4000" spc="-1" strike="noStrike">
                <a:solidFill>
                  <a:srgbClr val="263c80"/>
                </a:solidFill>
                <a:latin typeface="Asap"/>
                <a:ea typeface="Roboto"/>
              </a:rPr>
              <a:t>Ďakujem </a:t>
            </a:r>
            <a:br>
              <a:rPr sz="4000"/>
            </a:br>
            <a:r>
              <a:rPr b="1" lang="sk-SK" sz="4000" spc="-1" strike="noStrike">
                <a:solidFill>
                  <a:srgbClr val="263c80"/>
                </a:solidFill>
                <a:latin typeface="Asap"/>
                <a:ea typeface="Roboto"/>
              </a:rPr>
              <a:t>za pozornos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-3600" y="3630600"/>
            <a:ext cx="343080" cy="1440"/>
          </a:xfrm>
          <a:prstGeom prst="line">
            <a:avLst/>
          </a:prstGeom>
          <a:ln w="3816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7888320" y="1384200"/>
            <a:ext cx="342720" cy="1800"/>
          </a:xfrm>
          <a:prstGeom prst="line">
            <a:avLst/>
          </a:prstGeom>
          <a:ln w="3816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1139120" y="6197760"/>
            <a:ext cx="34308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837720" y="5509800"/>
            <a:ext cx="34750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33000"/>
          </a:bodyPr>
          <a:p>
            <a:pPr marL="11304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69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4"/>
          <a:srcRect l="5972" t="0" r="5972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 flipH="1">
            <a:off x="5746320" y="6829560"/>
            <a:ext cx="7002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4157640" y="4730760"/>
            <a:ext cx="387504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0000"/>
          </a:bodyPr>
          <a:p>
            <a:pPr marL="6840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50" name=""/>
          <p:cNvSpPr/>
          <p:nvPr/>
        </p:nvSpPr>
        <p:spPr>
          <a:xfrm>
            <a:off x="4856040" y="5815080"/>
            <a:ext cx="24796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263c80"/>
                </a:solidFill>
                <a:latin typeface="Asap"/>
              </a:rPr>
              <a:t>www.vicepremier.gov.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5637240" y="760320"/>
            <a:ext cx="919080" cy="8715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69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37720" y="1825560"/>
            <a:ext cx="5178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3153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98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5746320" y="25560"/>
            <a:ext cx="7002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-3600" y="1844640"/>
            <a:ext cx="7002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1495160" y="4626000"/>
            <a:ext cx="69984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459080" y="3459240"/>
            <a:ext cx="9272520" cy="1440"/>
          </a:xfrm>
          <a:prstGeom prst="line">
            <a:avLst/>
          </a:prstGeom>
          <a:ln w="12600">
            <a:solidFill>
              <a:srgbClr val="263c80">
                <a:alpha val="3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12192120" cy="22986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sk-SK" sz="1600" spc="-1" strike="noStrike">
                <a:solidFill>
                  <a:srgbClr val="263c80"/>
                </a:solidFill>
                <a:latin typeface="Roboto Regular"/>
              </a:rPr>
              <a:t>Insert 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880560" y="5067000"/>
            <a:ext cx="224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7000"/>
          </a:bodyPr>
          <a:p>
            <a:pPr marL="5832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838080" y="348840"/>
            <a:ext cx="10512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7272360" y="486720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sap"/>
              </a:rPr>
              <a:t>PS 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272360" y="525132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18.12.2018 – 13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272360" y="563076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ÚPPVII/ Londý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95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           Dohoda na fungovaní 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           Zverejňovanie prioritných datase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           Návrh – vedenie agendy v digitálnej fo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           Ekonomická hodnota 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           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Úlohy a ďalšie stretnu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ohoda na fungovaní P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Pravidelnosť – každé 2 týžd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Návrh tém na stretnutie – štandardná štruktúra zasadnut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Quick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Strategické té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Prioritné datasety (po rezorto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Plnenie úloh AP OGP/ NKIVS/ Straté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Iné, ad hoc tém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1. Zverejňovanie prioritných dataseto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3uVKtcS4vDHZISeLZvv-0E3Cefmutc8P-CVk0cEf1RM/edit#gid=1323657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rezort (15.01.2019):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 Štatistický úrad 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lternatíva: MŽP SR (SHM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Príprava: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rovnanie s datasetmi na data.gov.sk (NASES?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Požiadavky (hodnoteni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Formát? Licencia? Kvalita? Aktuálnosť? Aktualizác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? pomoc s Open API? Priori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2. Návrh vedenia agendy v digitálnej fo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Cieľom je pomôcť rezortom, ktoré majú záujem, s vytvorením vzorového dokumen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document/d/1gysbm-Dl5jaKpNynBWZ67B-15Go5O-mpGsCrzchnNrY/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Obsa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3. Ekonomická hodnota Open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Cieľom je poukázať na náklady a prínosy zverejňovania otvorených údajov z ekonomického pohľadu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Aspek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Náklady, HzP (CBA), Ekonomika, Zamestnanosť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Existujúce analý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Návrh štruktúry analýz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document/d/1WmIlPWI-A1r3ho70MqUnHailCMeaONf8ueWhBZiDlzs/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Úlo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Posúdiť datasety vybraného rezortu (Štatistický úrad + MŽP S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3uVKtcS4vDHZISeLZvv-0E3Cefmutc8P-CVk0cEf1RM/edit#gid=1323657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Komentovať návrh Vedenia agendy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Prispieť k prvej časti Ekonomickej analý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Navrhnúť úlohu/y z OGP/NKIVS/Straté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Úlo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Ďalšie stretnutie: 15. 01. 2019 / Londý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ém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zavretie „Vedenie agendy v digitálnej forme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zavretie prvej časti Ekonomickej analýzy Open data, otvorenie druh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súdenie zverejňovania Open data 1. rezortu, určenie 2. rezor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VROS USVROS</cp:lastModifiedBy>
  <dcterms:modified xsi:type="dcterms:W3CDTF">2018-11-27T12:45:3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dlc_DocId">
    <vt:lpwstr>CTYWSUCD3UHA-699772915-132</vt:lpwstr>
  </property>
  <property fmtid="{D5CDD505-2E9C-101B-9397-08002B2CF9AE}" pid="3" name="_dlc_DocIdItemGuid">
    <vt:lpwstr>e6520cb6-6600-4122-93bc-d7b0d9c1543b</vt:lpwstr>
  </property>
  <property fmtid="{D5CDD505-2E9C-101B-9397-08002B2CF9AE}" pid="4" name="_dlc_DocIdUrl">
    <vt:lpwstr>https://sp.finance.gov.sk/lepsie-data/_layouts/15/DocIdRedir.aspx?ID=CTYWSUCD3UHA-699772915-132, CTYWSUCD3UHA-699772915-132</vt:lpwstr>
  </property>
</Properties>
</file>